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hapter 5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asic Genetics 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CA General Biolog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. Cob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unnett Squar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19708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sults are expressed in ratios pg. 116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omozygous dominant: heterozygous: recessiv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ross two heterozygous for trait P, what is the genotypic ratio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 is for purple and p is for yellow, what is the phenotypic ratio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est Cros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20968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f you corn that shows the dominant purple kernels (P), then what is the genotype?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P or Pp, it could be either.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o a test cross and mate with corn that is yellow recessive because that genotype is pp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f any of the offspring show the recessive trait, then the unknown was heterozygou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Variations of Mendel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20480" y="1625760"/>
            <a:ext cx="10363320" cy="304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complete dominance = one trait is not completely dominant over the other, so they “blend”.    Red flower + White flower = pin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757680" y="4076640"/>
            <a:ext cx="59450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Variation (continued)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069640"/>
            <a:ext cx="1046484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dominance = both alleles are expressed, but there is no blending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2451240" y="3605040"/>
            <a:ext cx="753084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Variation (continued)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26640" y="1739880"/>
            <a:ext cx="1075716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ultiple alleles = More than two alleles in the population.  Blood typ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2863800" y="3438360"/>
            <a:ext cx="726444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lood Typ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2680" y="1549440"/>
            <a:ext cx="1118880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ctr">
            <a:normAutofit fontScale="91000"/>
          </a:bodyPr>
          <a:p>
            <a:pPr marL="811440" indent="-3956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A and B Blood Types are both Dominant and notated by 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and 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B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The recessive is not having the antigens and it is notated as i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A person with A blood type could be 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 or 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AB Blood type is 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I</a:t>
            </a:r>
            <a:r>
              <a:rPr b="0" lang="en-US" sz="3600" spc="-1" strike="noStrike" baseline="32000">
                <a:solidFill>
                  <a:srgbClr val="ffffff"/>
                </a:solidFill>
                <a:latin typeface="Cambria"/>
                <a:ea typeface="Cambria"/>
              </a:rPr>
              <a:t>B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114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ad the box on top of page 121.  Did a mixup happen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Dihybrid Cross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168912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ame as Punnett Square, but now we are looking at the probability of two traits togeth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ur example is pod color and is the pod constricted (skinny) or inflated (fatter)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60240" y="122400"/>
            <a:ext cx="11671560" cy="83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Dihybrid Cros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04480" y="149832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en would this be useful in society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Independent Assortmen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eparation of one allele does not affect the other alleles.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r example, the pod color does not affect the pod shape or flower color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These alleles are sorted independently of each other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endel’s Genetic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0440" y="3098520"/>
            <a:ext cx="5423040" cy="546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on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orked with pea plan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7 trai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232240" y="2744640"/>
            <a:ext cx="2540160" cy="3021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7970760" y="2146320"/>
            <a:ext cx="4589640" cy="61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337760" cy="187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Independent Assortmen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2247480"/>
            <a:ext cx="6502320" cy="575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“G” Chromosome is independent from the “I” chromosom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7704000" y="2095560"/>
            <a:ext cx="4830840" cy="60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olygenic Inheritanc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00628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 or more genes working together result in a single trai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uman traits like hair color, skin color, eye color, heigh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example in the book is the comb of chicke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leiotroph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Just FY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leiotrophy is one gene controls many characterisitic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xample is sickle cell anemia and affects 1 in 12 black people in the U.S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ckle cell anemia causes the red blood cell to sickle in high elevation and in activit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ickle Cell Anemi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469800" y="2514600"/>
            <a:ext cx="5753160" cy="4203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-101520" y="6864480"/>
            <a:ext cx="633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Ryan Clark of Pittsburgh can not play in Denver due to sickle Cell Anemia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6794640" y="2487600"/>
            <a:ext cx="5778360" cy="4267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853400" y="7069680"/>
            <a:ext cx="36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Sickle Cell Anemia Red Blood Cell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x Chromosom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190476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romosomes that determine the sex of an individual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autosomes are the other 22 chromosome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XX is a fema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XY is a ma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x Chromosom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86960" y="2247840"/>
            <a:ext cx="555012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male donates the Y chromosome.  So the male determines the sex of the offspring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7365960" y="2589120"/>
            <a:ext cx="469908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x Chromosom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re are traits on the chromosomes and these are called sex-linked trait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mophilia - blood does not clot correctl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ldnes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lor blindnes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x Chromosom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00628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les usually exhibit the traits.  Why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les only have 1 X chromosome and females have 2 X chromosomes.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les will exhibit the recessive trai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lor Blind Tes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1200" y="3060720"/>
            <a:ext cx="3606840" cy="2387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4076640" y="2292480"/>
            <a:ext cx="897912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lor Blind Tes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1898640" y="2463840"/>
            <a:ext cx="97218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endel’s Concept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it Characteristic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ominant and Recessiv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Law of segrega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lor Blind Tes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2154240" y="2781360"/>
            <a:ext cx="914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edigre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68280" y="2247480"/>
            <a:ext cx="588024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chart used to track a genetic trait through a generatio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s is a pedigree of hemophilia in the British Royal Famil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6462720" y="2095560"/>
            <a:ext cx="651672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Unit Characteristic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10816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its are caused by factors that occur in pair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 represented these with letter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 = tall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 = short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Dominant &amp; Recessiv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00628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ominant gene hides a recessive gen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T = Tall plan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t = Tall plan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t = short plan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greg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29860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at does Segregate mean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en a cell forms gametes genes separat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nly 1 factor for each trait will be in each   gamet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 had figured out Meiosis, but did not know why or how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erminolog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henotype = physical appearance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enotype = the specific gen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llele = an alternate form of a gene (purple flower allele or white flower allele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omozygous = both alleles are the sam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eterozygous = alleles for a trait are differen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unnett Squar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06080" y="1816200"/>
            <a:ext cx="61974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se to determine the probability of an outcom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5% both head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50% heterozygou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5% both tail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6531120" y="2184480"/>
            <a:ext cx="619416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unnett Squar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2247840"/>
            <a:ext cx="556272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ree earlobes = F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ttached = f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at is phenotype and genotype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6823080" y="2176560"/>
            <a:ext cx="5740560" cy="579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